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AE8B1-E5BF-4F9A-9399-360CB17CCBF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67C89-A7A4-4854-98FD-C10603EDAB32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1D8B-BADC-4B4D-9CF7-9E01576B0F2E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43145-E19C-439F-938B-1444CEF93048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D99F6-AE01-4C5D-9F9D-21C7CA53DBAA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88A8C-29D0-4A33-B402-7CC3E4277F6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5803E-816E-487D-80B4-94BB8AA489C0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1EFB7-B450-47E7-B559-BC459CDAC40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99EC0-028F-4856-97CF-5A9DA251A2A9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B46FB-E125-4866-9303-D38FCFDDFE6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6831C-5C60-4585-BA07-107614CE25C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92B62-2FC6-4F8C-B9EB-E40E3866FD32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B2EB0-61D7-4BD8-A54A-FCAD8D9555C9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CAED-B671-4706-B351-C06741549E0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BC7D8-D1F1-4365-A3D0-FC632A147FFB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94061-1303-4E80-8755-083C00349197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9E7E-D4C0-4D37-A97B-EA5B65C81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46B1-6976-495C-A625-BEB0FE5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4434B-0892-4C39-BC7F-89841FE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D69A-455E-4BAC-A579-D34CF8D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F99F0-920B-45FB-AE19-1A358EB0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5F40-E03F-4B26-A0EA-BB8C1FFA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D441-6DED-4C48-8303-BACE83B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6E00C-5082-4967-8812-2707DF86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EB639-57E8-4CAD-B90C-853C6D9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9129-6B7F-4970-B662-4E1614C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72D5-1C95-4F27-BC84-84C815379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64669-D39F-435A-9605-66B1FB9FF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C99B-E1C2-4BD8-A9D9-4EE4C4B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4495D-4CE5-4FF7-AB60-A7E8720D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1A60C-2BF0-4D42-B990-C3547BBF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2FD6C-FF1C-4538-830E-386081A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BC532-0CE3-48F8-8792-8F5C7209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47C34-1E92-443B-95D8-EBCC3B10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0A38A-8B5F-4633-8108-EA89A30C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3C351-2F9F-40B6-8D52-9BA2333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59052-AD0C-498F-86E2-534D709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B33EA-6F11-44B2-A62F-739025A1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31398-3B61-4645-A30D-BDFD6A0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FC12-E933-442A-9C23-CFCF0CD7F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EB89E-0E51-407C-9586-1BD22E280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FEDD1-AFCA-4E52-8D31-59B2837A5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8E699-BF4C-4040-9328-749FC3EB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70342-6F2F-4DAF-8354-D9E042EA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AE147-E837-4BE2-A577-C503ACD1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74655B-08D2-4759-B83B-0F3BF2BF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D19CB-4E02-45DA-9D03-004412F6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E1425-105B-4BE9-B9E8-8C76A33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AB35C-F448-42B4-81C7-50417B5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CF238-E0D0-4DE8-B2F6-AFCA22B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5B74E-B689-43B9-8E36-268877AE2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F7619F-6C03-45CD-9D0B-1086FFF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1FABA-C5AD-4FB9-A7FC-B4F2EE1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AA8BE-B344-4F91-BCBF-78B4F12A9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9903-CEBB-4DC1-9FE6-F0676F20E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6158-0E6A-4591-897C-72C3F26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D2B1-AB86-47CF-BF75-4B4B1B73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ECCB5-9158-4286-A766-1E49BCE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3804-18BC-40AE-B2F3-ECC39912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32B8-EAA7-4314-B5A6-8F70C715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7519-1628-4DE7-9624-1CDF744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924A5-BC77-4F4B-B28F-7E1B7C1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62622-8C9A-4341-A334-5ACAD8D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79A0-1C28-4AC5-A75B-647F255F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BC9BB-9C86-423F-864D-03838D1D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B277-AA62-4984-84D1-E6E2453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2529-EF8D-4CCE-AD25-75F8353E3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0AA09-ADC7-4F9B-8AFA-79253CA3E5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FAAFF-012C-4134-B6DD-A36D507FF1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E61DE-39C6-4328-A033-2564EB9E354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3A93D-5F9C-47F8-825B-5AB9542B77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C2E9A-AD54-40A7-9E8E-B1D1D02C8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FD824-C728-476C-B662-3B6EB93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DC9CA-1E99-48FC-9BCA-27D3385E26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6D70E-2769-4491-8FB2-94DE8C7F62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98340-0015-44A1-A345-B7FFEC8546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62DF7-8712-4458-B654-649991C7F9E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B8B67-3796-45A1-920A-603CD949E64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24B85-9230-48F1-80CB-4DB9F77540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34F98-E442-4406-A9F7-3E933B71AB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D22FB-0243-44EF-90F2-B1C751E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C5B91-7B09-4705-8BD8-8485852F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A1F11-FFBA-406D-9F49-3C4AE529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3A824-B36D-4114-AB96-8C651B3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196B-AF9B-4109-8C6C-6069DD5C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33F2B-7471-4EA0-A4DB-17B80B3C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1016D-5BCD-442F-AE90-1C48EA3C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CCC2E-D4D4-4029-A56C-1A93FEE3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3FEB-9DA0-41F8-B668-C20FA13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7B6C-C697-4B10-9604-A11CA6641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7031-FF97-4F17-86A1-8D8FE22D4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3D8-CAD6-4C9B-9D49-C628853D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3F7A-CF90-4132-91E3-C7021F2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19FB-C5FE-4F28-B169-62154954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D346-477D-42C4-8730-03BACA5C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C810-002A-4E8B-9F0A-1411B61F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EAA2-943D-45CD-8CB0-87D814E4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F7F-D794-41E1-84A5-6ACBFC7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5BD-8091-4C93-AE9B-51591267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89A5-975C-4B38-88DA-480D694D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423-3A9C-4259-85C8-80A8414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E6EE-862D-4710-8965-F5596D3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3457-3AD6-46B8-87E3-8F7707DD6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7AFD8-C838-4408-A632-49E9DBAFE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2B6C-3476-441D-B307-3A1C992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3A2FC-1C5E-463E-956C-7AA019F2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49AC-A512-4ABD-84B8-C2CEDD9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89640-2D0A-4EA8-B133-CFD3CCB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8F6CC-AC12-4611-AC95-0404C5B0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FA29E-AFAB-49EF-B0CA-C03FABFB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9CDF4-338C-440A-9E39-09DA3117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15C71-BC68-4B96-80A0-5DB6928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28C11-776A-44B8-A681-62ADCD7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1F893-3E3E-4889-9204-4F643B5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11525-0BEC-476F-BB41-AD7EEC3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22FC5-7F14-45B2-A143-8AD66B963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4BC2B-AE50-4CCD-9ABE-C13B852BA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0E41-3151-414A-8A13-575DD1EB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F7ACE-B24B-4008-94C2-0BFF61D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AAD2F-33FB-4EE7-B6A0-705E073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62405-8D27-4BAD-8646-CB12338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3FFA6-A78C-430A-97CB-FECC6C1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5A836-6585-445A-969B-5FD7443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91314-2487-4F32-9FC7-9166F34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CF1E6-CD19-4B99-BA0C-53AE3F6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6444F-945A-4F78-8C02-FD67567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41CEF-3E15-4405-A5B6-2A9B06DE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32D65-17BC-40B9-A78A-A3D1341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4CE3-EC6F-4EB1-A512-78A46F1B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8C3D5-2054-43F1-880D-37096DDDB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2F22-E726-4A57-929B-297AC1A97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C36C-03EC-485D-8561-BB15FE66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72E0-AA74-4D10-B5CA-B3539D2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A97A-D145-4F41-B737-5DBEEC9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7A1A-1956-4C8B-96B0-305AEDB2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B75E-F0F4-4070-8299-51517EE8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9C09-8FAE-4221-8266-8B84B55F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A424-DEB2-48DD-9511-801B4B1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3893-DB40-4518-AC92-6312211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F52C-E399-438A-82A3-7FD50D4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9BB4-84F2-49AA-8D89-7664576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2D98-1C34-40C6-84F2-0C63B09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1614-73A2-42B1-AF20-2A1FB3950D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59293-B63B-4F5A-8D86-E8A2792AF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C19F5-5FC9-4292-890F-4D7E3EEB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0B9CF-E27E-4AEC-A634-F9F9376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2157A-9C71-4F78-B764-F6E5652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66A36-B2D9-4664-9E3C-3DC38F0C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5E793-152A-472E-A48C-0F30FF2E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0F468-0302-4665-B8B7-0D733A9A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4FBD-8C68-48DB-9E41-B9ACF9A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7864A-3609-41D0-AE57-7DA8E3C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BB647-FCD6-4DCF-8A26-D8003E7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8D9BD-5B3D-4B57-A758-D94F5A0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4A537-F3BA-4763-8638-B3B49C9E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2ED83-2FFE-4E32-B8A4-6561DDCE2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DAB86-0068-4910-A4A5-7575A28C3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42660-EE13-4C69-81A8-C4BDC12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F7183-AB96-450E-88E2-E7FCC136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51BB2-C63C-4184-837B-02A5A75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40320-0529-4B12-AE6C-F234CEB0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BDE3-AB4A-4849-A636-23A5251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F64BF-63F4-4317-BF66-2B07AFB4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2D64D-6DFC-4E4E-BB80-739DA065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8CA92-5CFD-44CE-BC86-AF72434B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7414F-5274-4B76-94DB-A57A296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B9363-71CF-4879-B371-ECBA47F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50D8DF-D1A5-4BA2-B49B-D3F35B4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14581-395F-47BA-B439-3CC68A468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4A470-A683-43F6-BBBA-C84807265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1829-04BA-4629-B5CB-66985EEA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ED9F-F458-4139-935B-D8E992B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9146C-0ECE-4FD5-A129-7C33ECF982DC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E21D9-1F42-443D-AEBA-622AE5119EE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853D-41E7-4C4F-BF12-B2A04C96E08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1459-35B2-4C34-B2FA-08DBBDCD9C4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2C2C5-477C-427F-82A5-2AF104E0934F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F65F7-AA3C-4921-881E-E65B6AFC3178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2E35-4280-434D-A8C8-2F9BA68AC86E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7EB07-7D00-47F8-A193-23D6FF749506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E3B2-5E87-4455-B468-0F5B6EE5095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7B9E-1ED8-4D47-84DF-796D6687A4C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14FA-5162-4202-999D-2E48498699CE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24B50-2F8E-4F0C-AC1E-7D85229393D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E08D5-25E6-4924-9D69-DBB1964467F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,  rules and logic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dditional encoding layer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:type(X,Y)  &amp;  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Z)  =&gt;  rdf:type(X,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Y(X,Z) &amp; 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ang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U)  =&gt;   rdf:type(X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Y(X,Z) &amp; 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domai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Y,U)  =&gt;  rdf:type(Z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have to be encoded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in classical 1st order logic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rdf:type,Y)  &amp;  rdf(Y,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dfs:subClassOf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Z)  =&gt;  rdf(X,rdf:type,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Y,Z) &amp; rdf(Y,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range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)  =&gt;   rdf(X,rdf:type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df(X,Y,Z) &amp; rdf(Y,rdfs:</a:t>
            </a:r>
            <a:r>
              <a:rPr b="0" lang="et-EE" sz="1800" spc="-1" strike="noStrike">
                <a:solidFill>
                  <a:srgbClr val="c5000b"/>
                </a:solidFill>
                <a:latin typeface="Calibri"/>
              </a:rPr>
              <a:t>domain,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)  =&gt;  rdf(Z,rdf:type,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a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http://xx#121 ex:eesnimi "Jaan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Metainfo about the fact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imestamp: 10jaan2008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sestaja:peeter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aldusvaarsus:0.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 encoded as triples (invent object "13"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obje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http://xx#12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predicat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ex:eesni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rdf:subject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"Jaan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ex:timestamp   10jaan20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13  sisestaja      pe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ification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subject,Y) 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predicate,Z) 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X,rdf:object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Y,Z,U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OT provided in rdf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cardinality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constraints on properties, e.g., that a Person has exactly one biological fa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a given property (such as ex:hasAncestor) is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transitiv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, e.g., that if A ex:hasAncestor B, and B ex:hasAncestor C,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 ex:hasAncestor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a given property is a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unique identifier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(or key) for instances of a particular cl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two different classes (having different URIrefs) actually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represent the same class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that two different instances (having different URIrefs) actually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represent the same individual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OT provided in rdf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pecifying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constraints on the range or cardinality of a property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that depend on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he class of resource to which a property is applied, e.g., being able to say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-   for a soccer team the ex:hasPlayers property has 11 valu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-   for a basketball team the ex:hasPlayers property has 5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he ability to describe new classes in terms of</a:t>
            </a:r>
            <a:r>
              <a:rPr b="0" lang="et-EE" sz="1800" spc="-1" strike="noStrike">
                <a:solidFill>
                  <a:srgbClr val="ff0000"/>
                </a:solidFill>
                <a:latin typeface="Calibri"/>
              </a:rPr>
              <a:t> combinations (e.g., unions and intersections)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of other classes, or to say that two classes are disjoint (i.e., that no resource is an instance of both clas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ays to extend rd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9640" y="1619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traditional rul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Current mainstream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RI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Rule Interchange Forma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Older favorite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RuleM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Rule Meta-Languag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A complex evolving standar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  <a:ea typeface="SimSun"/>
              </a:rPr>
              <a:t>C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 (Common Logi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ing a specialised description-logic based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8720" indent="-555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OWL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(Web Ontology Languag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 and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W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WL and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 Sche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ree kinds of simple taxonomy rules added to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is a car, X is a vehicle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has a property profession, X is a person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„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f X has a property brother, value of the property is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“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irst (main)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MotorVehicle   rdf:type   rdfs: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things:companyCar   rdf:type   ex:V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Van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MotorVehic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964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ain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ame facts in the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predicate calculus notatio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ex:MotorVehicle, rdfs:Cla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exthings:companyCar,ex:Van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subClassOf(ex:Van, ex:MotorVehicl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:type(X,Y)  &amp;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subClassO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Z)  =&gt;  rdf:type(X,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cond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   rdf:type     rdfs:Clas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rdf:type     rdf:Property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ran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Per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the f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1  ex:author  ex:haml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hould deriv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ex:author rdf:type  ex:Per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gically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Y(X,Z)  &amp;  rdfs: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an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U)  =&gt;  rdf:type(X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ird r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Book     rdf:type      rdfs:Clas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rdf:type      rdf:Property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author   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rdfs:domai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ex:Book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nd the f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:person1  ex:author  ex:haml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hould deriv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ex:hamlet  rdf:type  ex:Book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gically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uilt-in rule assumed in rdf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Y(X,Z)  &amp;  rdfs:</a:t>
            </a:r>
            <a:r>
              <a:rPr b="0" lang="et-EE" sz="2200" spc="-1" strike="noStrike">
                <a:solidFill>
                  <a:srgbClr val="c5000b"/>
                </a:solidFill>
                <a:latin typeface="Calibri"/>
              </a:rPr>
              <a:t>domai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Y,U)  =&gt;  rdf:type(Z,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3-02-11T13:10:46Z</dcterms:modified>
  <cp:revision>114</cp:revision>
  <dc:subject/>
  <dc:title>RDF and schemaless databases: some notes</dc:title>
</cp:coreProperties>
</file>